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4CA8-81C6-416E-87B2-6505F2B811C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760F-101F-457A-A985-004C2A787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985680" y="741240"/>
            <a:ext cx="4886640" cy="3665520"/>
          </a:xfrm>
          <a:prstGeom prst="rect">
            <a:avLst/>
          </a:prstGeom>
          <a:ln w="0">
            <a:noFill/>
          </a:ln>
        </p:spPr>
      </p:sp>
      <p:sp>
        <p:nvSpPr>
          <p:cNvPr id="11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E9DD-AD05-405D-9886-CA65B2DC9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PlaceHolder 1"/>
          <p:cNvSpPr>
            <a:spLocks noGrp="1"/>
          </p:cNvSpPr>
          <p:nvPr>
            <p:ph type="sldImg"/>
          </p:nvPr>
        </p:nvSpPr>
        <p:spPr>
          <a:xfrm>
            <a:off x="985680" y="741240"/>
            <a:ext cx="4886640" cy="3665520"/>
          </a:xfrm>
          <a:prstGeom prst="rect">
            <a:avLst/>
          </a:prstGeom>
          <a:ln w="0">
            <a:noFill/>
          </a:ln>
        </p:spPr>
      </p:sp>
      <p:sp>
        <p:nvSpPr>
          <p:cNvPr id="1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1F4D-750B-425E-8AB6-97763D133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985680" y="741240"/>
            <a:ext cx="4886640" cy="3665520"/>
          </a:xfrm>
          <a:prstGeom prst="rect">
            <a:avLst/>
          </a:prstGeom>
          <a:ln w="0">
            <a:noFill/>
          </a:ln>
        </p:spPr>
      </p:sp>
      <p:sp>
        <p:nvSpPr>
          <p:cNvPr id="11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9EDB-DDCD-4BAD-833D-138BF7296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PlaceHolder 1"/>
          <p:cNvSpPr>
            <a:spLocks noGrp="1"/>
          </p:cNvSpPr>
          <p:nvPr>
            <p:ph type="sldImg"/>
          </p:nvPr>
        </p:nvSpPr>
        <p:spPr>
          <a:xfrm>
            <a:off x="985680" y="741240"/>
            <a:ext cx="4886640" cy="3665520"/>
          </a:xfrm>
          <a:prstGeom prst="rect">
            <a:avLst/>
          </a:prstGeom>
          <a:ln w="0">
            <a:noFill/>
          </a:ln>
        </p:spPr>
      </p:sp>
      <p:sp>
        <p:nvSpPr>
          <p:cNvPr id="11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0378-DE9C-4F04-8193-4F703580D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511D-2E5A-4754-9D6C-6C01E1334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9293-2100-45F2-A737-AC2FAA8C0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BB56-0B97-40AE-B153-DB3DEFCC5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F71F-16EA-4B86-9808-93CB084C6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177F-7AB9-4CB3-9016-3E98C2F50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28A2-C151-4A00-A5D1-A6281B581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BF65-2A58-4D6B-92FF-62D7D6E55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A620-9D91-4E80-86B4-DCB7657AF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EADE-AA47-405A-B1E0-E9F0B912A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DD27-80B6-40D0-9A35-0BF270675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6220-3894-4B0E-A7FE-A36BBBA4B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B727-A96F-46C4-B76D-25F541942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D80F-97C6-4FFD-9E22-72DBD68BC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202E-CBE4-473C-B41A-FB7690429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3B8A-1397-42DF-A02A-FA037AE03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9AE2-2524-4700-9EAE-39B02BB3F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4B19-55ED-4221-B3A7-47D61F349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PlaceHolder 1"/>
          <p:cNvSpPr>
            <a:spLocks noGrp="1"/>
          </p:cNvSpPr>
          <p:nvPr>
            <p:ph type="sldImg"/>
          </p:nvPr>
        </p:nvSpPr>
        <p:spPr>
          <a:xfrm>
            <a:off x="985680" y="741240"/>
            <a:ext cx="4886640" cy="3665520"/>
          </a:xfrm>
          <a:prstGeom prst="rect">
            <a:avLst/>
          </a:prstGeom>
          <a:ln w="0">
            <a:noFill/>
          </a:ln>
        </p:spPr>
      </p:sp>
      <p:sp>
        <p:nvSpPr>
          <p:cNvPr id="1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E795-3FA5-4227-80F9-18C8188F6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FBD4-A8CB-448A-9983-BCB9F6845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7B3B-CA74-4D8A-B6E6-E854436A2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31ED-132E-4882-B039-C2497772C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2F0A-7805-4396-B525-D0ABC0C84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0825-FA2C-42E4-B272-1C7CBA01C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7491-0E04-4BA8-A17C-E36353797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BF34-EBFA-4CB2-8AF7-DA3B45552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CCD4-82CD-4C16-B2BF-CD1E7AE86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1E37-9647-4664-8535-9B9ADA49F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91A9-4D94-487C-9B12-3178F89F2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985680" y="741240"/>
            <a:ext cx="4886640" cy="3665520"/>
          </a:xfrm>
          <a:prstGeom prst="rect">
            <a:avLst/>
          </a:prstGeom>
          <a:ln w="0">
            <a:noFill/>
          </a:ln>
        </p:spPr>
      </p:sp>
      <p:sp>
        <p:nvSpPr>
          <p:cNvPr id="11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C0D6-0F36-4674-AA9B-0DCEA19A0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C2DA-E76B-4FC1-B296-DCF15980F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B629-BDDD-4CE3-A6BE-0628D7D3A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2D62-E4A7-43AF-804E-8B9AF7905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D8AF-195F-4659-88B9-712C98C8E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B6C4-606A-422D-B6BD-6A4D61CCC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D102-60DF-4EFD-A00A-3E4538247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6D01-DC68-41AB-8105-E4EBF6A30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8FAA-A153-46EA-84B3-CF9C3275D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E213-F442-49DA-B967-F37780DED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66FC-AC36-4BBA-80A9-06963E367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PlaceHolder 1"/>
          <p:cNvSpPr>
            <a:spLocks noGrp="1"/>
          </p:cNvSpPr>
          <p:nvPr>
            <p:ph type="sldImg"/>
          </p:nvPr>
        </p:nvSpPr>
        <p:spPr>
          <a:xfrm>
            <a:off x="985680" y="741240"/>
            <a:ext cx="4886640" cy="3665520"/>
          </a:xfrm>
          <a:prstGeom prst="rect">
            <a:avLst/>
          </a:prstGeom>
          <a:ln w="0">
            <a:noFill/>
          </a:ln>
        </p:spPr>
      </p:sp>
      <p:sp>
        <p:nvSpPr>
          <p:cNvPr id="11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554E-BFCC-4F3C-9B3A-8B24B21BD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1254-CC79-4354-B990-883A4249E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7214-8BF0-4106-8601-00A4C8362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8E36-1688-4C89-9A88-C9FCEA949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0C3A-E094-4F34-9304-98E87E838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B970-0664-40AB-81F4-815B7D80C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4165-D0CF-4299-B903-BF0CEDC4F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661B-D9C2-459E-92AD-D599376F4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DD48-39FE-4BEE-8AAD-8110BBD01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8274-9DCF-47AE-B5DF-D2DC946F0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4408-1502-4147-8016-78AB40B72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985680" y="741240"/>
            <a:ext cx="4886640" cy="3665520"/>
          </a:xfrm>
          <a:prstGeom prst="rect">
            <a:avLst/>
          </a:prstGeom>
          <a:ln w="0">
            <a:noFill/>
          </a:ln>
        </p:spPr>
      </p:sp>
      <p:sp>
        <p:nvSpPr>
          <p:cNvPr id="11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7461-61A3-4DA7-83F2-591667B0A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E480-0275-4A41-8A45-696B2C883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3200-E5D8-4E20-A718-039A82095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02DD-F46D-42F4-AAA0-75E41C546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CB85-1DE1-41BB-AC0D-5FFDD8C19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CE70-40F9-4212-BF1D-836F86C67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010A-1C54-4248-8785-D9F9F4BAA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286A-6CAA-42D2-90C6-C15784814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985680" y="741240"/>
            <a:ext cx="4886640" cy="3665520"/>
          </a:xfrm>
          <a:prstGeom prst="rect">
            <a:avLst/>
          </a:prstGeom>
          <a:ln w="0">
            <a:noFill/>
          </a:ln>
        </p:spPr>
      </p:sp>
      <p:sp>
        <p:nvSpPr>
          <p:cNvPr id="1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BCE6-0961-47F6-A54B-298770B7C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985680" y="741240"/>
            <a:ext cx="4886640" cy="3665520"/>
          </a:xfrm>
          <a:prstGeom prst="rect">
            <a:avLst/>
          </a:prstGeom>
          <a:ln w="0">
            <a:noFill/>
          </a:ln>
        </p:spPr>
      </p:sp>
      <p:sp>
        <p:nvSpPr>
          <p:cNvPr id="11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8CDB-F8BE-4DCE-BE8B-D3A3A3A9A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PlaceHolder 1"/>
          <p:cNvSpPr>
            <a:spLocks noGrp="1"/>
          </p:cNvSpPr>
          <p:nvPr>
            <p:ph type="sldImg"/>
          </p:nvPr>
        </p:nvSpPr>
        <p:spPr>
          <a:xfrm>
            <a:off x="985680" y="741240"/>
            <a:ext cx="4886640" cy="3665520"/>
          </a:xfrm>
          <a:prstGeom prst="rect">
            <a:avLst/>
          </a:prstGeom>
          <a:ln w="0">
            <a:noFill/>
          </a:ln>
        </p:spPr>
      </p:sp>
      <p:sp>
        <p:nvSpPr>
          <p:cNvPr id="11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3FA16-1E4F-48C6-83BF-AD801ABB9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1ECD9-8C1B-4B0D-9896-7AE57B75B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E7352-8086-41FE-9EA7-E982C09CCF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37BD5C-FA6A-47D1-96D8-5248D9BB57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C42CB-633C-4CAA-B6CF-FE1D09227C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52B2FD-96AD-41B2-8471-FA31FBFFC3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1D62C-E937-4654-9681-C51766BA6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2BC8E-095C-4442-9EC4-4F0C1B4A6A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7C60EC-CA4D-4B77-A7B0-9572276058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264A7D-EBE6-415C-9F58-66FF01A264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6AF4C7-96B2-4349-9452-368FA1B0C2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716307-C792-425A-8B22-F2CDF1B40F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63E58-87B6-4083-A07F-9CEB26DCA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8854D8-1C1F-4A8B-A861-C4E7475F5B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2CF19A-D25A-4CC6-ACED-CB8D0B57D4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A1CE5C-F25C-4179-A25C-A6B573C3D8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988619-9938-4EC2-8263-F2FC3EA6D1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1D5905-5ACD-4F9C-A02A-4809F2437D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6212F7-036B-469E-9EA2-2F49B74772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10BF97-A9F9-4D61-95C2-A53C92BAFA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598AB2-F9C2-4C49-A166-AB23908CE4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8D2A91-0C6E-40A7-B332-3C647C148C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2D9306-9A8D-43E4-B8A8-6D2B0CE7D3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40A86-FCE0-48A6-AA9D-2EAF2F8DC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60B103-A2E9-425D-BE5B-4A2071CAD4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64E19D-CF71-4FEB-B658-BCAA71B0A8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5A6BCD-2FAB-4475-9387-F8572F54EE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EB5525-42BD-440F-B337-F11EC1ECA4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925E6B-10AB-4B4D-A586-752614077A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91A966-B134-4F34-AAC6-CCC9AE1925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50F822-E182-4DE4-B673-44B350F53C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C39481-62A7-4C3E-81B8-BAEB76557B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D7242E-DE0C-4FF3-BE9F-6E141B61DA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2096E7-2F63-4D35-AFC3-092830E573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0EFBF-E8F0-4753-9FC4-FB3542E2F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3C1B44-52CC-4748-8407-3BAF1F699F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C125CF-8F90-464D-9B39-FF58B86B01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AC86F7-81AB-4426-8168-014CF9BF14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DD3CF2A-56A1-4D11-AC72-83293A768F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DB69DE-1E35-4B05-B0A4-9792CA01BE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CC77CA-5B7E-4467-8DE6-2CF1DEBE49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4643A8-48DF-4A00-9B12-FBFF8B5CF9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A11AC3-B713-4797-A980-C4FFC5484B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997ED6-A2DD-4838-B6FC-6658FAE853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B87756-6DED-4EDB-82E5-92933C40D4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04A65-DA05-4E79-B6CF-A7B1B1003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F7DE3A-678C-4921-AD10-B098666B7A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93B8A6-82D1-4D10-89EB-502076E59F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FA2218-A6C1-4D8C-975E-B8FF210275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696635-96A8-4935-A68E-E547C1AFD1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F85F99-DAB4-422B-9736-FABAE16D48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397FD46-9567-4C50-8544-455BDC9ECB4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C0FCDE3-236F-4D28-A862-91889BD05F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C769B90-1F17-4D33-9E41-6F415B1682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0B2CFB6-7996-4036-ABE3-D15F6FEC4E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E99BE56B-4CB1-4A34-BCC3-EA7975C49B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14381-F41C-4CC0-984E-161404929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59CD1760-CAE3-4DB1-B3B7-6341941E86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A0E6841-9C69-4E87-9142-BBAF238766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574F524-54F1-40AD-9095-61ACF41522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903A0A8-9381-4F3F-BA0D-663A239729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DBE3F10-D104-4E45-A94A-4C2AD535F2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E4CA09AA-DDD5-4686-A24F-244976943F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E55BC8C-D0DC-4390-AE78-B590793F7AFF}"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D654E-B49B-4E35-B1C5-7BF929752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F6084-35B6-446F-A8C8-2CD8D27C1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03134-DD59-4B65-9272-62C04E76E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9C357-48D1-4B26-8AB7-ABE68CDFB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5E466-F240-4C47-B603-B54F82DEB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54B58-5A3D-4F0B-ADF9-23988D4BD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FEF73-EDFB-4762-A595-E577A7328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1DFDF-F8DE-4E42-B272-372FBC2F0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C2678-F2C8-443E-AFD3-ED07C9011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D9847-133B-45E6-BB12-EB0A30C11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AA3279-F2E5-4F42-AD68-761A0EBB36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E0061-9C37-496B-9CE7-F8879D41F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C3F58-AB09-49E7-815D-6DE762839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04ECD-1515-4432-B35F-7FD6613CE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F9DCB-9D23-4C85-BB7A-9E34948FA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F3845-DAE8-47FD-8D62-CD55F6CA3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FC5AB-EFA6-4077-B9A5-2F0BE9FAF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FFF59-9AE0-4ECB-AA7E-02ADC6158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38DA6-0225-4DB7-9E10-0138FF763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29FA8-A959-4118-98CE-0D9718526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EB002B-52D2-43BF-968A-DA26010AB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D53D7-7F80-488B-A0B1-55CB1EB8F6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8B5AC1-7740-4612-A0E8-14D4029CA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C74CC6-675E-4368-BE49-82169D3256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371725-B2C9-45E9-B28A-87649B8EF8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4C590-F28D-497C-A0EF-D5948D7DA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60ACB-6EA0-4325-BA81-BFC90FA10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11ED7-21E7-497C-89FB-3C30842BB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C85FB0-A1AA-4254-AB9B-020E1A0C5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0EEBD3-9C4C-4B12-BF35-01555FB0B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390E8-9993-41CF-97D8-C84031091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CDD20-54C9-421E-9315-21716DA79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D75F0-AD2B-43CB-B55D-CCC149E0E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A90A8-6372-40A8-9FBA-FA5504889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920FC9-3AEC-4CC6-9898-38370B732B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635C4F-2916-4DCC-9F42-4E1FA53584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86A057-8C63-45DE-A94A-FEA8457C80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37534-F10F-45A2-8610-5C9AB7C87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D5CA9-4E00-4DD6-9CD7-B68C221788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F21874-4CF8-46C4-A4B9-B3C662FC88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B3853F-8FCD-4814-AEB7-6467EB73F5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62C0A7-594A-4C00-B705-D8C966689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D3020-7DA4-4BDC-960F-C4BDF65DF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5AF45-60FB-4698-8840-8844FEF8D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93FA7-FE33-45B3-8B9E-6F4CE20F74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FC1D4F-FE82-48B3-977B-DE5D22CEF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03D98-173C-4A4A-9A85-587796C2E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C0C212-FB0D-45B8-BB1E-2AA78E8F46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2E0A4-D15B-41B3-A662-8118E0B9E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7326E9-D9AF-41F1-BE94-733AAFE819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1243FF-315E-4EBA-8EC6-466AED7CCF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BADE8-9A33-47C2-B697-86D465ED3B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F3668-983E-469C-9AA3-F2CA789E1D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18960-646C-4334-AAB2-C998FDD60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80CC7D-CBDB-4CC0-9888-D5BBB17D8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93BEAF-5F16-4B73-A777-A71BF161A0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04F60-98A8-4253-BF69-99CA3419D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7919F-3D31-4363-B825-6F87D8064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592776-5694-48ED-A43C-9E2F73075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E48F-4A26-4DB2-B1F4-833D2CFA0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2D720A-20F2-437C-B544-91E3BEA49F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413AEC-84D0-43FF-B3C3-524870D9A4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591472-2F5E-44C8-929F-89D529CAE2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D17A7E-7890-446F-A609-2203BE0B51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DCD64-F63D-4287-BA2D-BCB747D12F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1C4EDF-39BD-4708-B03F-EAF1414C19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22D286-E81D-45F7-BE66-30AEF8FAD4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4CB8D2-FD65-4EC8-B06F-CB306AFDA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617F36-FAB8-4FE3-9638-085329CF4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C344D-1813-4DBD-A6F4-8F2BF1F0A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5A826-7258-4602-9418-86FD584E9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B9C99E-823E-40E2-84D9-8B33B08DB5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A31E47-9CBB-4B4C-896A-5FED65940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B01887-3625-4188-A5E9-BE73F9C5E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0707BC-8CD4-42F3-89D3-9F0A2BB6F8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097968-50E8-4FB9-BBC9-B150813763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CD6741-7076-46DC-9026-47F20DAE98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C1B9FA-1C61-44CD-9177-F88E2E73EF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35DA1E-4B20-4F84-A269-066093A6D5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BD4B99-4DAF-4750-BDC3-CE5D5CFCD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AF7023-1486-40CF-A8D9-BA2EA8AE3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21C2-5331-4EF2-BCFF-B70EF1D1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01982E-2665-4AFE-B34B-1C190FB7B0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63F184-85AD-48F8-B502-E6D4A5FD5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04702-1218-4640-984F-DB5C9233D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2DF80E-5400-4C17-8B1A-D48528F62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2B05A7-527F-425E-93D6-ACFB8E376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D58558-2474-47E2-9220-941F1F29D5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266BFE-3CE2-448C-BEB8-EEED812F1A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413C24-3EE4-484F-B1E6-F09DB1CB94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1BCC78-6BFA-4D89-B4E7-45B56F30CD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669DFF-5B2D-4530-AB3F-4F18A9EFB8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1F10-276F-489B-B826-91DD60FB747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6E60-9B33-4B5A-8DCF-A53EE3F74E2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7967-0ADA-4AA4-8CE2-798FAA414E9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BDE4-36DE-4553-8AA0-84580AA13F9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0EFF-E57C-4860-86C8-1762C9319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0ED7-083D-44D2-9573-0B7D0FB4972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708B-75CB-401D-A251-E5A063FD05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A4F7-4F73-4F31-8E1A-385ECE9C8B7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32A1-3699-477B-9AA8-4B6BF0C8DB5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2E14-30BB-4E0C-99B4-A26BF0CC5EB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456D-A076-4E21-B696-5497C6E9288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1F5B-9C3D-468F-987E-49FF20547A1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8D42-DD1A-4268-AAF0-704D6424BC6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1392120"/>
            <a:ext cx="83487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4000" y="1212840"/>
            <a:ext cx="84960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79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280" y="1212840"/>
            <a:ext cx="8348760" cy="45720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00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33" name="Picture 9" descr=""/>
          <p:cNvPicPr/>
          <p:nvPr/>
        </p:nvPicPr>
        <p:blipFill>
          <a:blip r:embed="rId1"/>
          <a:stretch/>
        </p:blipFill>
        <p:spPr>
          <a:xfrm>
            <a:off x="0" y="0"/>
            <a:ext cx="9144000" cy="1368360"/>
          </a:xfrm>
          <a:prstGeom prst="rect">
            <a:avLst/>
          </a:prstGeom>
          <a:ln w="0">
            <a:noFill/>
          </a:ln>
        </p:spPr>
      </p:pic>
      <p:pic>
        <p:nvPicPr>
          <p:cNvPr id="1134" name="Picture 10" descr=""/>
          <p:cNvPicPr/>
          <p:nvPr/>
        </p:nvPicPr>
        <p:blipFill>
          <a:blip r:embed="rId2"/>
          <a:stretch/>
        </p:blipFill>
        <p:spPr>
          <a:xfrm>
            <a:off x="1258920" y="2060640"/>
            <a:ext cx="1297080" cy="1528560"/>
          </a:xfrm>
          <a:prstGeom prst="rect">
            <a:avLst/>
          </a:prstGeom>
          <a:ln w="0">
            <a:noFill/>
          </a:ln>
        </p:spPr>
      </p:pic>
      <p:pic>
        <p:nvPicPr>
          <p:cNvPr id="1135" name="12 - Εικόνα" descr=""/>
          <p:cNvPicPr/>
          <p:nvPr/>
        </p:nvPicPr>
        <p:blipFill>
          <a:blip r:embed="rId3"/>
          <a:stretch/>
        </p:blipFill>
        <p:spPr>
          <a:xfrm>
            <a:off x="6948360" y="1989000"/>
            <a:ext cx="1444680" cy="1573200"/>
          </a:xfrm>
          <a:prstGeom prst="rect">
            <a:avLst/>
          </a:prstGeom>
          <a:ln w="0">
            <a:noFill/>
          </a:ln>
        </p:spPr>
      </p:pic>
      <p:sp>
        <p:nvSpPr>
          <p:cNvPr id="1136"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3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112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1T09:52:53Z</dcterms:modified>
  <cp:revision>161</cp:revision>
  <dc:subject/>
  <dc:title>Παρουσίαση του PowerPoint</dc:title>
</cp:coreProperties>
</file>